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D2F-45C7-420D-83F1-4515851D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20E-8F3A-4443-A159-253CBFEC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D5C-D3A5-4F6B-A98C-67384D03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ED1-79C8-4D93-9A79-C6EBFE0B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208-DD65-4EE8-BD60-713DD97C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64F-5184-427B-87C5-CAB259E6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C1A-553A-48F8-A2E6-3677406A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1EE-A29E-406A-B982-9D15F06E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FEB-0EE3-46D7-9564-E150C75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4D2-1AC1-46E3-9EA5-99EAEB4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C6D-96C9-4E1F-B6A8-6BE3A58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A18-0068-409F-B3C6-4D00318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EDD6-A658-4212-8F61-71319E39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hyperlink" Target="http://www.freehearingtest.com/test.shtml" TargetMode="External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Sensation and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tion 5Q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797120" y="58680"/>
          <a:ext cx="7315200" cy="65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58680"/>
                    <a:ext cx="731520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2362320"/>
            <a:ext cx="830592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ignal Detection Theor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ies the link between motivation, sensitivity and decision-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son’s ability to detect a stimulus also depends on an individual’s motivation (must be “attuned” to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buy a new car and suddenly become aware of many cars like 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ing you see someone you know (Bacon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2133720"/>
            <a:ext cx="868680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Sens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pattern of electrical activity in the brain when receptors are sti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by colors, forms, sounds, smells and ta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Percep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rganization of sensory information into meaningful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of sensory activities (breakfast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2b2b2"/>
                </a:solidFill>
                <a:uFillTx/>
                <a:latin typeface="Times New Roman"/>
              </a:rPr>
              <a:t>Psychophys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tudy of the relationships between sensation and physical stimuli (measured using size, duration, intensity, or wavelength – light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7696080" cy="6832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 rot="5400000">
            <a:off x="5271480" y="303372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erceptio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133720"/>
            <a:ext cx="82296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Absolute Threshold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amount of physical energy needed to produce sensation (music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ound exam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threshold is the stimulus level that produces a response 50% of the time (from both “direction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80" y="2057400"/>
            <a:ext cx="5189760" cy="4372560"/>
            <a:chOff x="2880" y="2057400"/>
            <a:chExt cx="5189760" cy="4372560"/>
          </a:xfrm>
        </p:grpSpPr>
        <p:sp>
          <p:nvSpPr>
            <p:cNvPr id="103" name=""/>
            <p:cNvSpPr/>
            <p:nvPr/>
          </p:nvSpPr>
          <p:spPr>
            <a:xfrm>
              <a:off x="1556280" y="517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29200" y="4443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200" y="3646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29200" y="2844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04640" y="2058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58680" y="53643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080" y="536436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sol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sho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7920" y="5364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2920" y="6061680"/>
              <a:ext cx="24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nsity of stimul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80" y="2407680"/>
              <a:ext cx="141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51880" y="6278760"/>
              <a:ext cx="96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53280" y="3804120"/>
              <a:ext cx="148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558600" y="4083120"/>
              <a:ext cx="1473480" cy="666720"/>
              <a:chOff x="3558600" y="4083120"/>
              <a:chExt cx="1473480" cy="666720"/>
            </a:xfrm>
          </p:grpSpPr>
          <p:sp>
            <p:nvSpPr>
              <p:cNvPr id="116" name=""/>
              <p:cNvSpPr/>
              <p:nvPr/>
            </p:nvSpPr>
            <p:spPr>
              <a:xfrm>
                <a:off x="3558600" y="4095360"/>
                <a:ext cx="1408680" cy="654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29160" y="4083120"/>
                <a:ext cx="1402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ublimi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timu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rot="16192200">
              <a:off x="2088360" y="4084200"/>
              <a:ext cx="1528200" cy="9637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36120" y="3804120"/>
              <a:ext cx="0" cy="152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13280" y="4313520"/>
              <a:ext cx="444600" cy="50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3520" y="5114160"/>
              <a:ext cx="518400" cy="254520"/>
            </a:xfrm>
            <a:custGeom>
              <a:avLst/>
              <a:gdLst/>
              <a:ahLst/>
              <a:rect l="l" t="t" r="r" b="b"/>
              <a:pathLst>
                <a:path w="336" h="168">
                  <a:moveTo>
                    <a:pt x="8" y="144"/>
                  </a:moveTo>
                  <a:cubicBezTo>
                    <a:pt x="16" y="120"/>
                    <a:pt x="256" y="0"/>
                    <a:pt x="296" y="0"/>
                  </a:cubicBezTo>
                  <a:cubicBezTo>
                    <a:pt x="336" y="0"/>
                    <a:pt x="304" y="120"/>
                    <a:pt x="248" y="144"/>
                  </a:cubicBezTo>
                  <a:cubicBezTo>
                    <a:pt x="192" y="168"/>
                    <a:pt x="0" y="168"/>
                    <a:pt x="8" y="14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53280" y="2130120"/>
              <a:ext cx="3261960" cy="3202200"/>
            </a:xfrm>
            <a:custGeom>
              <a:avLst/>
              <a:gdLst/>
              <a:ahLst/>
              <a:rect l="l" t="t" r="r" b="b"/>
              <a:pathLst>
                <a:path w="2112" h="2120">
                  <a:moveTo>
                    <a:pt x="0" y="2112"/>
                  </a:moveTo>
                  <a:cubicBezTo>
                    <a:pt x="71" y="2116"/>
                    <a:pt x="143" y="2120"/>
                    <a:pt x="240" y="2064"/>
                  </a:cubicBezTo>
                  <a:cubicBezTo>
                    <a:pt x="336" y="2007"/>
                    <a:pt x="463" y="1928"/>
                    <a:pt x="576" y="1776"/>
                  </a:cubicBezTo>
                  <a:cubicBezTo>
                    <a:pt x="688" y="1623"/>
                    <a:pt x="832" y="1295"/>
                    <a:pt x="912" y="1152"/>
                  </a:cubicBezTo>
                  <a:cubicBezTo>
                    <a:pt x="991" y="1008"/>
                    <a:pt x="960" y="1032"/>
                    <a:pt x="1056" y="912"/>
                  </a:cubicBezTo>
                  <a:cubicBezTo>
                    <a:pt x="1152" y="792"/>
                    <a:pt x="1312" y="584"/>
                    <a:pt x="1488" y="432"/>
                  </a:cubicBezTo>
                  <a:cubicBezTo>
                    <a:pt x="1664" y="280"/>
                    <a:pt x="1888" y="140"/>
                    <a:pt x="2112" y="0"/>
                  </a:cubicBezTo>
                </a:path>
              </a:pathLst>
            </a:custGeom>
            <a:noFill/>
            <a:ln w="7632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3280" y="2057400"/>
              <a:ext cx="3261960" cy="3275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105520" y="182880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ubliminal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i below one’s absolute threshold for conscious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timuli may still be processed without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subliminal tapes have no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952640"/>
            <a:ext cx="86868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Weber’s La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rger a stimulus the greater the change needed to notice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uble sweetness of lemonade, three times the amount of sugar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of electric sh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reases eight times by doubling the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 of 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increased many times to double brigh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arry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2127240"/>
            <a:ext cx="845820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2b2b2"/>
                </a:solidFill>
                <a:uFillTx/>
                <a:latin typeface="Times New Roman"/>
              </a:rPr>
              <a:t>Sensory Adap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ses adapt to constant stimulation, responding only to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 not notice constant pressure/friction of clothes on you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s adjusting in a darkened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 responding to col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smell disappears after a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cils behind the ea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11959" r="45916" b="16300"/>
          <a:stretch/>
        </p:blipFill>
        <p:spPr>
          <a:xfrm>
            <a:off x="0" y="228600"/>
            <a:ext cx="8381880" cy="6432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5400000">
            <a:off x="5462280" y="3148200"/>
            <a:ext cx="632448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Afterimage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2:43:30Z</dcterms:created>
  <dc:creator>Authorized User</dc:creator>
  <dc:description/>
  <dc:language>en-US</dc:language>
  <cp:lastModifiedBy>Authorized User</cp:lastModifiedBy>
  <dcterms:modified xsi:type="dcterms:W3CDTF">2007-01-11T12:43:51Z</dcterms:modified>
  <cp:revision>1</cp:revision>
  <dc:subject/>
  <dc:title> CP Psychology</dc:title>
</cp:coreProperties>
</file>